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687-8F8B-45AD-8DA7-22DB649E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75B-68DD-4319-B79D-63368FDA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B30-EF91-4BAC-92DE-2F866AFB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9E0-F375-4B7E-952C-1824F192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005-668A-4D88-AE0C-2FCB16E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FEB-9C12-4B3D-801C-3134058A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AFE-B21B-4C02-BBF1-290A677A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470-07CA-4CDD-A519-FBA2A532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52-116F-4CEA-883B-0996DFAA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A97-B065-4CA3-A644-B8A1F7E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919-651D-4AB8-9EB4-B9F17A9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FF8-1824-4DBB-B0E5-33D91A2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034-F508-4B11-9FCE-D3EE751E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oper Black"/>
              </a:rPr>
              <a:t>Biology Exams Tomorrow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Are You Rea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Safety Fir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8120" y="99072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Science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use of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Rounded MT Bold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 construct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Rounded MT Bold"/>
              </a:rPr>
              <a:t>testable explanations and prediction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of natural phenomena, as well as the knowledge generated through this pro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a Hypothes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Testable Predictions of a cause of solution to a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t a Ques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f I study for my exam, then I will make a good grade!@!@!@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Know your Variab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86200"/>
            <a:ext cx="3427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371600"/>
            <a:ext cx="3427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4520" y="-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8548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D</a:t>
            </a: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-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- responding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Y</a:t>
            </a: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- y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4560" y="1523880"/>
            <a:ext cx="555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Rockwell Extra Bold"/>
              </a:rPr>
              <a:t>M- manipulating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- independent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X- x 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Know Your Group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600200"/>
          <a:ext cx="9143640" cy="52574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13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Bodoni MT Black"/>
                        </a:rPr>
                        <a:t>Experiment Group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Bodoni MT Black"/>
                        </a:rPr>
                        <a:t>Control Group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00"/>
                          </a:solidFill>
                          <a:latin typeface="Arial Rounded MT Bold"/>
                        </a:rPr>
                        <a:t>Contain the Independent Variable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o not contain the Independent Variable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Know Your Bio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106668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8077320" y="2286000"/>
          <a:ext cx="9428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286000"/>
                    <a:ext cx="942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48520" y="3429000"/>
            <a:ext cx="1143000" cy="8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924680" y="472428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553080" y="5918040"/>
            <a:ext cx="144792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7772400" y="3352680"/>
            <a:ext cx="1143000" cy="82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0240" y="5634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6880" y="5634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539640"/>
          <a:ext cx="9144000" cy="63183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  <a:gridCol w="3048120"/>
              </a:tblGrid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entury"/>
                          <a:ea typeface="Times New Roman"/>
                        </a:rPr>
                        <a:t>Biomolecules Information Char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Bi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referring to life or living things.    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Molecul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the smallest particle of a substance composed of one or more atom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Biomolec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ving things use carbohydrates as t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main source of energ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 Carbohydrates are also used for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structural purpos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Control the rate of chemical reac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and regulate cell processes.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Transport substanc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into and out of the cell. Form t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functional part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of living thin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pids are an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important part of the cell’s membra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 Lipids can b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used as a method to store energ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for long periods of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Nucle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Nucleic acids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store and transmit hereditary or genetic informa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necessary for making all protei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The Role of Enzy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nzymes are catalysts made of proteins. They</a:t>
            </a:r>
            <a:r>
              <a:rPr b="0" lang="en-US" sz="4000" spc="-1" strike="noStrike">
                <a:solidFill>
                  <a:srgbClr val="3333ff"/>
                </a:solidFill>
                <a:latin typeface="Arial Rounded MT Bold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Rounded MT Bold"/>
              </a:rPr>
              <a:t>speed up chemical reactions</a:t>
            </a:r>
            <a:r>
              <a:rPr b="0" lang="en-US" sz="4000" spc="-1" strike="noStrike">
                <a:solidFill>
                  <a:srgbClr val="3333ff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 cells by lowering the energy required for them to occ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ompare Prokaryotes an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914400"/>
          <a:ext cx="5943600" cy="5386320"/>
        </p:xfrm>
        <a:graphic>
          <a:graphicData uri="http://schemas.openxmlformats.org/drawingml/2006/table">
            <a:tbl>
              <a:tblPr/>
              <a:tblGrid>
                <a:gridCol w="2819520"/>
                <a:gridCol w="16761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Pro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Eu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Orga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a Cellular Memb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(some) Have a Cell W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ll are Uni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Some are Multi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P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Fun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85800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X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42:52Z</dcterms:created>
  <dc:creator>AISD</dc:creator>
  <dc:description/>
  <dc:language>en-US</dc:language>
  <cp:lastModifiedBy>AISD</cp:lastModifiedBy>
  <dcterms:modified xsi:type="dcterms:W3CDTF">2010-09-15T12:09:12Z</dcterms:modified>
  <cp:revision>4</cp:revision>
  <dc:subject/>
  <dc:title>Biology Exams Tomorrow!</dc:title>
</cp:coreProperties>
</file>